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FB1-6ADF-4DAF-BBBC-C149152D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E9E-F686-476A-BDAB-27C70AC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05F-CC01-4502-8472-6C7F1467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C92-E811-43C4-A24E-82DDAA29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32E1-56AF-42A1-81D5-7401B718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39EB-DD65-4D1E-819B-9DD50FA9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89E-D8BA-42EE-A2E9-056DA3D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0C1-565D-4156-AC35-9828AA3C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CC6-9F5B-47AA-AD56-F90809D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3CD-A82E-436F-BD1B-5734756E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1E5E-68EC-4191-A4F3-DBD1350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893-6F95-4A2D-8F37-53974E8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04A-7DEE-4E61-97E2-736BF8B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B92E-D3A2-4CA5-AD22-F225770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0A43-BB71-49F9-9634-033DD2AD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161C-68B5-4AA8-960B-FE8104C3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3977-19DE-44E9-A998-7935E19D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1D5-3201-4564-A596-B9B5E71E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490-7CAB-4F9F-BF14-F359E9D5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42B-D9A3-4F02-826D-6D10011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D9B-1F09-4167-81FC-31C25849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39E-D289-45BC-AC1E-ACD41E38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C2D-84AC-4B6B-B528-A1AA1CE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03C-0716-48FC-929D-8CCFAE8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8C5-CC4F-4437-8B1A-7984CA14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7FB-FA0C-493C-A71B-188B51B7E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wonderful Haw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defonso Plu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79DC-140F-4DE2-B5AC-DE9849A7FD97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of the movie is to tell the audiences that hawks are cool and amazing because there big and fast. I will also say what they eat and where they live. I will prove that hawks are not bad. I will prove that Hawks are better than lame old Falc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t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I will get payed is by  taking it to another  schools and show it. What else is ill upload it on the internet all put it every where. And I will show it to my friends than they show it to other people  Who will see it is the audience, a lot of other people a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y movie will be special is because the picture that I will put would be so cool and I will explain a lot of stuff in my movie. How it would be different is because I will talk a little bit about what they eat. And you could might learn new stuff about Hawks. Not talking about those lame falc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2:09Z</dcterms:created>
  <dc:creator/>
  <dc:description/>
  <dc:language>en-US</dc:language>
  <cp:lastModifiedBy>City School</cp:lastModifiedBy>
  <dcterms:modified xsi:type="dcterms:W3CDTF">2013-02-19T21:27:54Z</dcterms:modified>
  <cp:revision>40</cp:revision>
  <dc:subject/>
  <dc:title>The Pitch-Then-Plan Business Planning Template</dc:title>
</cp:coreProperties>
</file>